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8ABF-FDF6-4E5D-BAEF-F0162BA34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ACE8-1428-4A19-83C5-39296FC4A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EB04-A3ED-4A95-ACD5-B9D189364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F390-275D-4881-A6BE-282E801EC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28731D-D4A8-4B5A-8D10-8DF71D38D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14A5AA-3717-4E6B-A5C7-F533F1C4C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FB9F93-F427-4B65-8562-9DE1808B2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BF4654-B097-4FBC-A98D-699BD617D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7A479C-B0C7-4AAD-92DD-584885DC5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70077E-892F-4771-80DE-85B675884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4CA521-740C-49CE-98CD-83792E29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6FA1-C300-4E2E-8065-4659B0B1B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B3D6E2-CDC3-457A-8F2B-9D27DD04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832359-D6FD-45AC-A895-A6EA80B4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6E727E-D43D-4407-AC89-40DF7009C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7A59FC-7FAF-44ED-B4FD-273E2B496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3603E6-3D58-402E-A97A-853AC9F60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FDDE2-DFC9-4FEB-A2C7-C9A9A8CCE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CC9C8-2289-480E-BCB1-1AADAFF90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DA5EF-4972-4723-87F1-E79691B98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A3B07-C226-4206-BDEB-0EA5305D0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5B071-027B-4E23-8886-DE059E45F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F1B9-5814-4EF9-9FFE-9F63FB38C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84023-6206-45CA-899B-50EFBDCE9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A8875-AB09-459C-A8C9-0299E7D8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60358-56D5-4079-9A38-49B486AF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9EF8B-1134-4815-AA1C-D7EE2B7A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7F4E8-6A07-4686-82D9-58D500947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24A6A-A46E-45C2-983C-B37720A17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824F8-7701-42E3-8889-8C57372F0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00257B-233F-4567-B332-F3B9B7BAB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379CE8-41CD-4EFB-A297-5D7AFE870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C5B5B4-1B6C-43CE-B277-E1E5BCBEF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D690-53A5-4737-8491-65048B777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4AD9E9-3368-4559-9B67-DD53C8B6C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7C7385-6322-401B-BAB9-79AE44734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EAAE9D-8F17-4FF4-AF70-56E2E1BAD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71D68D-9213-4FA5-B5D0-62C3CAF3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554FA7-DB6B-4D5B-B0C1-64B0C8DE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CC8554-DFAE-444B-AF67-FDD6C523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1334D7-6C66-4984-9E58-DB7610216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7C8B7F-A9D3-4B6C-AF44-5926394DC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016FE5-3DB1-49E5-B799-BC8CE3580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20A5-84A6-4B48-9722-9DADC9264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89A7-7F86-4193-AC19-B1E70B79E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3BB2-5547-4C98-AA51-546397CD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290C-1888-456B-AB2E-4EF6E7E1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4251-03E8-4349-848A-A4CA7183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947903-ECAC-42AB-B1BB-54C0AEB6593E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Oval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80808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823E80-4FF0-4CD7-B514-F4F5A16B9E01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D5C115-4D38-4052-998A-EB871CD7CDD7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D96536-87B5-4EA9-A715-F2CB54210802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TED Talk with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efac9"/>
                </a:solidFill>
                <a:latin typeface="Constantia"/>
              </a:rPr>
              <a:t>Ernesto Siroli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Title 1" descr=""/>
          <p:cNvPicPr/>
          <p:nvPr/>
        </p:nvPicPr>
        <p:blipFill>
          <a:blip r:embed="rId1"/>
          <a:stretch/>
        </p:blipFill>
        <p:spPr>
          <a:xfrm>
            <a:off x="457200" y="1432080"/>
            <a:ext cx="830880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2911320"/>
            <a:ext cx="8229600" cy="31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How much money do half of the world’s population have to live on per day?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Consider the recent tragedies in the Mediterranean. Many people believe that the best solution is to help these people in their own countries so they are not forced to migrate. </a:t>
            </a:r>
            <a:r>
              <a:rPr b="0" lang="en-US" sz="2400" spc="-1" strike="noStrike" u="sng">
                <a:solidFill>
                  <a:srgbClr val="fefac9"/>
                </a:solidFill>
                <a:uFillTx/>
                <a:latin typeface="Constantia"/>
              </a:rPr>
              <a:t>Is there a right and wrong way to help someone?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173" name="Title 2" descr=""/>
          <p:cNvPicPr/>
          <p:nvPr/>
        </p:nvPicPr>
        <p:blipFill>
          <a:blip r:embed="rId1"/>
          <a:stretch/>
        </p:blipFill>
        <p:spPr>
          <a:xfrm>
            <a:off x="457200" y="334800"/>
            <a:ext cx="8229600" cy="22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1971720"/>
            <a:ext cx="8229600" cy="41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hy did Ernesto decide to become an aid worker when he was 21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hat was his job exactly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Volunteers would often send letters to Ernesto and to their boss. How did these letters differ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hy was Ernesto given the nickname </a:t>
            </a: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Tarmac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ccording to Ernesto, who was responsible for the mistakes in Africa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5" name="Title 2" descr=""/>
          <p:cNvPicPr/>
          <p:nvPr/>
        </p:nvPicPr>
        <p:blipFill>
          <a:blip r:embed="rId1"/>
          <a:stretch/>
        </p:blipFill>
        <p:spPr>
          <a:xfrm>
            <a:off x="457200" y="365040"/>
            <a:ext cx="822960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hat was the project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hat did Ernesto think of the landscape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hat was the locals attitude to this project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hat didn’t the Italian volunteers ask the locals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ow were the tomatoes different from the ones grown in Italy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rom the context, what does the word </a:t>
            </a: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blunder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mean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hy was he proud of his project in Zambia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hat did Ernesto learn from this experience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7" name="Tit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Title 2" descr=""/>
          <p:cNvPicPr/>
          <p:nvPr/>
        </p:nvPicPr>
        <p:blipFill>
          <a:blip r:embed="rId1"/>
          <a:stretch/>
        </p:blipFill>
        <p:spPr>
          <a:xfrm>
            <a:off x="457200" y="2152800"/>
            <a:ext cx="8229600" cy="12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rom the context what do the words </a:t>
            </a: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donor countries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and </a:t>
            </a: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alms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mean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hat mustn’t you do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hat should you do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hat don’t you need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hat’s the most important thing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hat was his idea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0" name="Tit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magine that you are an aid worker in Africa, or South America, India etc. and write two letters: one to your boss and one to Ernesto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rite a composition that summarizes Ernesto’s TED Talk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magine you want to become a foreign aid worker. Write a letter of application to the Peace Corps giving your qualifications, reasons for joining and how you would like to contribute to Peace Corps projects.  (http://www.peacecorps.gov/learn/wherepc/africa/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2" name="Title 2" descr=""/>
          <p:cNvPicPr/>
          <p:nvPr/>
        </p:nvPicPr>
        <p:blipFill>
          <a:blip r:embed="rId1"/>
          <a:stretch/>
        </p:blipFill>
        <p:spPr>
          <a:xfrm>
            <a:off x="457200" y="139680"/>
            <a:ext cx="822960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3T10:14:32Z</dcterms:created>
  <dc:creator>Paul Filippetto</dc:creator>
  <dc:description/>
  <dc:language>en-US</dc:language>
  <cp:lastModifiedBy>Paul Filippetto</cp:lastModifiedBy>
  <dcterms:modified xsi:type="dcterms:W3CDTF">2013-11-13T11:14:18Z</dcterms:modified>
  <cp:revision>11</cp:revision>
  <dc:subject/>
  <dc:title>The haves and have-nots </dc:title>
</cp:coreProperties>
</file>